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883-1CE0-4AE3-99C4-D0623573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C1B-9187-493D-96B5-2FEC114A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402-A75C-40CB-A3BA-19F65A17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3B5-9AD0-4AE1-B59F-6452C150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1757-B075-400D-AAE7-4CA9F06C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B617-84D7-4037-B2AB-099B112E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DB7A-A5FB-4AEB-8F14-91EAED2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D80-F51A-4B5D-8EEC-BE8A2CC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C9F-1074-46F2-B0ED-40E13C89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15AE-EFD6-4803-9DFE-8D36EA3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BC01-C32F-43D3-86DD-E468B6E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634-013F-455A-B144-9AF26DB6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210D-3F9D-4444-B80F-C2D517D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FA61-20DC-456A-8A31-650E307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4A66-B10F-4703-B91B-513BEAD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9948-668E-4FAE-8712-1141321E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C9A-853E-4C81-9488-7FCC8FD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BB4-2A61-4297-BE25-3BF100C7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A71-A9EA-4D31-8716-65092FF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514-8C24-4379-A0EE-2592375B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113-0016-4115-8ACD-52F9B0B3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105-EB3C-4687-B466-5C31FEC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5BC-85CA-4230-9559-8CEC6399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250-3F05-4738-9D4F-1DB50803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6CD-E5DF-41DE-82CB-6E5348D463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C849-9BB5-4736-8358-18463E9C9D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78560" cy="79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сновные направления работы Бюро по стандарта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58920" y="167472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b200"/>
                </a:solidFill>
                <a:latin typeface="Comic Sans MS"/>
              </a:rPr>
              <a:t>Гармонизация технических регламентов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. Межгосударственная стандартизац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 анализ, планирование, координация работы МТК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- подготовка НД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3. Обеспечение единства измерений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. Оценка соответств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5. Надзор и контроль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6. Обращение химической продукци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7. Премия качества СНГ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8. Каталогизаци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9. Международное сотрудничеств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0. Информационные технологии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AEBC-24B5-4414-B341-11DDB07061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ценка соответ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боты по анализу гармонизации законодательства государств-участников СНГ в области подтверждения соответствия в соответствии с международными подход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боты по обеспечению идентичности правил и процедур подтверждения соответствия продукции, поставляемой на национальные рынки государств-участников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р решение вопросов по повышению качества и конкурентоспособности производимой в государствах-участниках СНГ продукции и услуг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онное обеспечение экспортеров об обязательных требованиях к поставляемой продукции, действующих на рынках стран СНГ, и процедурах ее размещения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ализ ПМС 2010-2012 раздел «Оценка соответствия»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ОС, и рассылка их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E6F-B480-4DE4-A163-83C6844654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ценка соответств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оценки (подтверждения) соответств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перечня продукции, подлежащей обязательной сертифик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перечня органов по сертификации персонала государств-участников «Соглашения о взаимном признании сертификатов компетентности персонала в области оценки соответствия», принятому 30 мая 2002 года, г. Минск (протокол МГС № 21-2002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-51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по вопросам оценки (подтверждению) соответствия к заседаниям МГС, НТКОС, НТКА и для Исполнительного комитета СНГ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138-37A6-4148-99B0-6639E4BA3E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ккредит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созданию механизма взаимного признания результатов работ по аккредитации государствами-участниками СНГ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налитический обзор о системах аккредитации в государствах-участниках СНГ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проекту «Соглашения о взаимном признании аккредитации органов по сертификации и испытательных лабораторий (центров), выполняющих работы по оценке (подтверждению) соответствия»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реализации Программы взаимодействия по вопросам аккредитац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боты по разработке и реализации «Программы разработки и пересмотра межгосударственных стандартов по вопросам аккредитации на основе международных нормативных документов (основополагающие документы)»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аккредитаци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дготовка материалов по вопросам аккредитации к заседаниям МГС, НТКА и для Исполнительного комитета СНГ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658-CAEA-43BD-BBF7-A3D386419E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дзор и контро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Н и рассылка их НО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лиз предложений НО и подготовка проектов целевых программ надзора и контроля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Н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ординация работ по предотвращению распространения опасной продукци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одготовка материалов в области  надзора к заседаниям МГС, НТК, и для Исполнительного комитета СНГ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формирование предложений по гармонизации надзорной деятельности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реписка с НО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DCA-5ED4-4CE5-BF13-9FB87B8843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формационные техноло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тернет-сайт МГ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ИС МГ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ПС Стандар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асная продук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Д эталон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естр МС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Портал МТ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450-1DD0-4A91-8051-7B27D9BF4B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мия качества СН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документов по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для сайта по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сметы расходов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Фонда конкурс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заимодействие с Исполнительным комитетом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заимодействие с предприятия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ординация взаимодействия экспертов с предприятия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ация проведения семинара для подготовки эксперт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работка документа для вручения экспертам по окончанию семинар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ормирование экспертных комиссий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а, связанная с заключением договоров с претендентами на звание лауреат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для Жюри конкурс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ы, связанные с организацией вручения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буклета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отчета на утверждение Жюри конкурса по проведению конкурса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бота, связанная с изготовлением Призов Премии СНГ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дготовка материалов по отчетам претендентов, по экспертным заключениям, по финансовым документам для предприятий…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5EF-C285-46E0-81C2-C2A5793AED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7295" t="1966" r="9998" b="24317"/>
          <a:stretch/>
        </p:blipFill>
        <p:spPr>
          <a:xfrm>
            <a:off x="395280" y="692280"/>
            <a:ext cx="7921800" cy="49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F20-99E5-407C-B348-63EF764BF7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Гармонизация технических регла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нализ предложений НО по гармонизации технических регламентов государств – участников СН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обобщенных предложений и организация их рассмотрения НО, на заседаниях НТК и МГ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о поручению МГС проекта соглашения «О межгосударственных технических регламентах государств – участников СНГ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б учете замечаний и предложений 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ение проекта Соглашения и связанных с ним материалов в Исполнительный комитет СН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совместно с Исполнительный комитет СНГ материалов по учету замечаний и предложений государств при рассмотрении на КЭВ и Э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технического регулиров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604-7EC4-42E5-A9ED-BFF02C33AB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, планирование и координация работы МТ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аналитических материалов для Председателя, Ответственного секретаря и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иторинг выполнения решений МГС (подготовка и рассылка НО планов-графиков и учет их выполнения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О информации о работе МГ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е перечней приоритетных направлений работ по межгосударственной стандартизации и мониторинг их реализ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ния программы работ по межгосударственной стандартизации, координация ее реализации и актуализац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иторинг межгосударственных программ стандартизац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направление в Исполнительный комитет СНГ материалов по выполнению Стратегии экономического развития СНГ, касающейся межгосударственной стандартизации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рассылка НО проектов повесток и протоколов заседаний МГС, НТКС,  РГ по информационным технологиям, РГ по каталогизации,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ХП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E2B-D36F-4CE5-890E-8B5374BA8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, планирование и координация работы МТК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и рассылка НО проектов повесток и протоколов заседаний МГС, НТКС,  РГ по информационным технологиям, РГ по каталогизации,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ализ работы АИС МГС и подготовка предложений по совершенствованию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ализ материалов, представляемых НО для учреждения МТК на соответствие требованиям ПМГ 02-2008, дублирования областей деятельности, заинтересованности государст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ординация работы М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ктуализация Указателя МТ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дение Интернет-сайта МГ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по стандартизации, информационным технологиям, каталогизации, работе РГ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C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к заседаниям МГС, НТК, и для Исполнительного комитета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писка с НО и МТ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38B2-B2D5-4D7F-8F53-B8AE30DB68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Н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Анализ НД, размещенных в АИС МГС на принятие, на предмет полноты согласования, учета замечаний и предложений НО, присвоение обозначений, пригодности для издания и внесение данных в  АИС МГС (в раздел «Заполняет Бюро»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Формирование перечней НД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ринятие «по переписке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меющих разноглас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яемых на рассмотрение НТКС и принятие МГ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Конвертирование принятых НД в ИПС «СНГ Стандар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Дополнение ИПС «СНГ Стандарт», недостающими реквизитами, актуализация каталога межгосударственных НД и рассылка НО, рассылка англоязычной версии ИСО, МЭК,СЕН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EB8-D1AE-4FCC-9F9A-286E76BF3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личество принятых межгосударственных стандар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2120" y="2421000"/>
          <a:ext cx="838188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21000"/>
                    <a:ext cx="8381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C67-7C47-470F-8900-EC255F7CB8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жгосударственная стандартиза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Регистрация принятых НД: анализ раздела 2 «Нормативные ссылки», подготовка титульных и листов предисловий с данными о регистрации, распечатка  и направление НО – разработчику вместе с  замечаниями, выявленными при регистрации  и отправка электронных версий принятых НД НО – разработчика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егистрация электронных версий НД, принятых МНТК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. Подготовка информации о принятых НД на заседании МГС, по переписке,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МНТК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для опубликования в информационных указателя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. Размещение поправок в АИС МГС, поступающих от НО, и поправок о дополнительном присоединении к принятым Н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. Подготовка и размещение в АИС МГС НД на изд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. Переписка с НО и МТ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. Формирование дел принятых НД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126-D8FF-4DA9-B10A-BDC21886A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еспечение единства измер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ординация работ по реализации решений МГС, НТК Метр, 6 РГ по метрологии,  10 межгосударственных программ и планов в области метрологического обеспечен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ормирование реестров национальных эталонов, СИ, СО, СТД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проектов повесток и протоколов заседаний НТК Метр и РГ Метр и рассылка их НО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информации о реализации Плана действий МГС на период до 2015 года к заседаниям МГС и НТК Метр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с КООМЕТ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ежгосударственных соглашений по метр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готовка материалов в области метрологии и к заседаниям МГС, НТК, и для Исполнительного комитета СНГ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писка с НО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6E8-AAC8-4380-8C87-38B589AF20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2:34:17Z</dcterms:created>
  <dc:creator>client801_7</dc:creator>
  <dc:description/>
  <dc:language>en-US</dc:language>
  <cp:lastModifiedBy>Сонец</cp:lastModifiedBy>
  <dcterms:modified xsi:type="dcterms:W3CDTF">2013-03-28T06:33:49Z</dcterms:modified>
  <cp:revision>11</cp:revision>
  <dc:subject/>
  <dc:title>Основные направления работы Бюро</dc:title>
</cp:coreProperties>
</file>